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F1E-F3E4-44E2-9FBD-53AAF32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28B-D7BA-4C39-BB68-0AA322E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9B7-7DFC-4545-8193-E0D472A1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F0A-5DFA-4485-9C81-9EC49CA4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AD5-F922-4E0F-81D9-A70C2C9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14C-B449-4E39-8388-42E77D9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449-7322-4D8E-B98D-23B3EB8D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9AE-CB45-4F2F-8DA5-CC10C9D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4F7-053E-4309-9F6B-E41B147C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748-4B57-4A3D-924D-F3862C1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442-3BA3-4001-8025-7B9FE9A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7D8-5C69-482E-8B3F-4C79A9B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11D-E3F6-417E-B817-63890874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S4cIkm96LZt4P1J1ZqehV5nEPqhjlQ7L0Op-Nm4vEDvNI574nzrQ"/>
          <p:cNvPicPr/>
          <p:nvPr/>
        </p:nvPicPr>
        <p:blipFill>
          <a:blip r:embed="rId1"/>
          <a:stretch/>
        </p:blipFill>
        <p:spPr>
          <a:xfrm>
            <a:off x="-106668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6" descr="planets_shirt_2_large(1)"/>
          <p:cNvPicPr/>
          <p:nvPr/>
        </p:nvPicPr>
        <p:blipFill>
          <a:blip r:embed="rId1"/>
          <a:stretch/>
        </p:blipFill>
        <p:spPr>
          <a:xfrm>
            <a:off x="0" y="-1469880"/>
            <a:ext cx="9144000" cy="832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2 factors that determine how planets dif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81000" y="46080"/>
            <a:ext cx="22384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81000" y="46080"/>
            <a:ext cx="22384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ANd9GcTRTdxTwZwEYypnaY9Up7vImyURHClffoTXUuo_SD7K3g-gwioP"/>
          <p:cNvPicPr/>
          <p:nvPr/>
        </p:nvPicPr>
        <p:blipFill>
          <a:blip r:embed="rId1"/>
          <a:stretch/>
        </p:blipFill>
        <p:spPr>
          <a:xfrm>
            <a:off x="0" y="-1508040"/>
            <a:ext cx="9144000" cy="8366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ght-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ANd9GcRhH3_vs22KzVr3CAWWoqlk9JcWSd4_UHOnVEhn4QSJfRipaeJ1"/>
          <p:cNvPicPr/>
          <p:nvPr/>
        </p:nvPicPr>
        <p:blipFill>
          <a:blip r:embed="rId1"/>
          <a:stretch/>
        </p:blipFill>
        <p:spPr>
          <a:xfrm>
            <a:off x="-304920" y="-2057400"/>
            <a:ext cx="9448920" cy="9448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ife cycle of a mid-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ANd9GcQVfNQ0j7FMTpE5qz0BfR88atJfn2Uv7jABw6LQc_L32TOWKnYY"/>
          <p:cNvPicPr/>
          <p:nvPr/>
        </p:nvPicPr>
        <p:blipFill>
          <a:blip r:embed="rId1"/>
          <a:stretch/>
        </p:blipFill>
        <p:spPr>
          <a:xfrm>
            <a:off x="0" y="0"/>
            <a:ext cx="922032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st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SiR9ziBA1DNA9xRJufGraTBTmOFmQnwcKJfhXy-NaLYTDdFD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facts bout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Nd9GcRubJ1l2VoGmDRyPsJ6RUWTPtCodMnBXTmpkhUicR1Tue6MyzY6gWBSsu7ZDQ"/>
          <p:cNvPicPr/>
          <p:nvPr/>
        </p:nvPicPr>
        <p:blipFill>
          <a:blip r:embed="rId1"/>
          <a:stretch/>
        </p:blipFill>
        <p:spPr>
          <a:xfrm>
            <a:off x="-838080" y="203040"/>
            <a:ext cx="9982080" cy="6654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wo ways the moon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Nd9GcRCSMQfNCZWIi4bFskqkQ0zUyTbkjn_IX7HgTLzF8N4Ph1pa5LI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auses of night and day on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R_wolEI6E5DoLwQ9wkO0A0AoXNvkVQvicoD9q50jTKltq6WPACmQ"/>
          <p:cNvPicPr/>
          <p:nvPr/>
        </p:nvPicPr>
        <p:blipFill>
          <a:blip r:embed="rId1"/>
          <a:stretch/>
        </p:blipFill>
        <p:spPr>
          <a:xfrm>
            <a:off x="0" y="-2133720"/>
            <a:ext cx="9372600" cy="11277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es of the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Nd9GcSlMYp3rgh-FRKHsTEr2kzNdok6zAyrtGaMuGBxkckFXpjsKw9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Nd9GcSOTj9P0Y2CstJmeQavkDOF1sv4K81yQ9uHSKgK5n2Gcy8AWM09NA"/>
          <p:cNvPicPr/>
          <p:nvPr/>
        </p:nvPicPr>
        <p:blipFill>
          <a:blip r:embed="rId1"/>
          <a:stretch/>
        </p:blipFill>
        <p:spPr>
          <a:xfrm>
            <a:off x="0" y="0"/>
            <a:ext cx="9982080" cy="691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Nd9GcQmcgQwn8n-MSMk-fah0bN7EJA6ggp6Dnizj-XhogYYsWixc4mT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6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ur gala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Nd9GcTwTRom97mZkMoA86pQKzXLuEHol21hHBhfEitpLo9Tp_9Wacfrlg"/>
          <p:cNvPicPr/>
          <p:nvPr/>
        </p:nvPicPr>
        <p:blipFill>
          <a:blip r:embed="rId1"/>
          <a:stretch/>
        </p:blipFill>
        <p:spPr>
          <a:xfrm>
            <a:off x="0" y="-1781280"/>
            <a:ext cx="9144000" cy="909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Paths of asteroids and come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5:34Z</dcterms:created>
  <dc:creator>Franklin Township School</dc:creator>
  <dc:description/>
  <dc:language>en-US</dc:language>
  <cp:lastModifiedBy>Owner</cp:lastModifiedBy>
  <dcterms:modified xsi:type="dcterms:W3CDTF">2011-05-17T18:50:56Z</dcterms:modified>
  <cp:revision>6</cp:revision>
  <dc:subject/>
  <dc:title>Slide 1</dc:title>
</cp:coreProperties>
</file>